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AF8-B083-4BBB-9B3A-4FBB0CDF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E19-3610-40C3-92A4-DF0A96C9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2CE-19D0-4150-8046-DBCA497C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9EF-B71A-447B-8B48-F8A09C6F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9FD-62E8-436F-A147-5F58FC8F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520-4815-41C2-BCE7-9E07AAF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290-710C-497F-A249-F7F6187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272-9D44-452E-AA16-22BF9D35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B83-EBD4-4193-B012-1D3F52B7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465-3575-49C9-A029-E34A027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E1C-B747-4F54-AD3A-2CC2434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990-2CFA-4429-B538-33768C1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B2E-D0A2-483E-A4B2-12CF18A9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840" y="187200"/>
            <a:ext cx="577188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Господи, ще пея с гл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и ще хваля Твойто 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Боже мой щастлив съм а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че в живота си те им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1680" y="1143000"/>
            <a:ext cx="6814800" cy="50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Ти дойде на таз земя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да ме спасиш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и на кръста умр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моя дълг да платиш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и пътят към вечност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откри за Твоите деца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Боже мой благодаря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840" y="187200"/>
            <a:ext cx="577188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Господи, ще пея с гл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и ще хваля Твойто 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Боже мой щастлив съм а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Arial"/>
                <a:ea typeface="Arial"/>
              </a:rPr>
              <a:t>че в живота си те им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8800" y="1143000"/>
            <a:ext cx="7216920" cy="50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Ти дойде на таз земя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да ме спасиш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и на кръста умр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моя дълг да платиш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и пътят към вечност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откри за Твоите деца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66"/>
                </a:solidFill>
                <a:latin typeface="Arial"/>
                <a:ea typeface="Arial"/>
              </a:rPr>
              <a:t>/</a:t>
            </a:r>
            <a:r>
              <a:rPr b="1" lang="bg-BG" sz="4600" spc="-1" strike="noStrike">
                <a:solidFill>
                  <a:srgbClr val="ffcc66"/>
                </a:solidFill>
                <a:latin typeface="Arial"/>
                <a:ea typeface="Arial"/>
              </a:rPr>
              <a:t>Боже мой благодаря!</a:t>
            </a:r>
            <a:r>
              <a:rPr b="1" lang="en-US" sz="4600" spc="-1" strike="noStrike">
                <a:solidFill>
                  <a:srgbClr val="ffcc66"/>
                </a:solidFill>
                <a:latin typeface="Arial"/>
                <a:ea typeface="Arial"/>
              </a:rPr>
              <a:t> /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1:56:59Z</dcterms:created>
  <dc:creator>TrifonTrifonow</dc:creator>
  <dc:description/>
  <dc:language>en-US</dc:language>
  <cp:lastModifiedBy>TrifonTrifonow</cp:lastModifiedBy>
  <dcterms:modified xsi:type="dcterms:W3CDTF">2005-09-19T12:12:08Z</dcterms:modified>
  <cp:revision>4</cp:revision>
  <dc:subject/>
  <dc:title>Slide 1</dc:title>
</cp:coreProperties>
</file>